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highchime.wav" ContentType="audio/x-wav"/>
  <Override PartName="/ppt/media/jetflyby2.wav" ContentType="audio/x-wav"/>
  <Override PartName="/ppt/media/EXPLODE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E32-AB4C-4D9F-85E3-2ACF947C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8CB-B0AB-4420-B12B-63E7E59C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6960-E56D-44E1-8FE3-280AC435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9EA-E96C-4AEF-9116-39141CBE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C85-C1A3-42C7-8E59-81F16143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853-850D-45EB-B950-AA15311E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726-4F68-4358-BA33-525CAB22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0CB-01D3-4D21-ACC1-A5EF3C95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ACD-05FF-4AFC-AC6B-2CEA51D7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BFB-568F-4B57-9304-E492CC84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687-7FC1-4643-BA55-651F0C4A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52C-560A-4E56-B189-D4F59B32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574A-21BC-4B8D-96BD-3E4027F6B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highchime.wav"/><Relationship Id="rId5" Type="http://schemas.openxmlformats.org/officeDocument/2006/relationships/audio" Target="../media/jetflyby2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jetflyby2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highchime.wav"/><Relationship Id="rId6" Type="http://schemas.openxmlformats.org/officeDocument/2006/relationships/audio" Target="../media/jetflyby2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jetflyby2.wav"/><Relationship Id="rId3" Type="http://schemas.openxmlformats.org/officeDocument/2006/relationships/audio" Target="../media/highchime.wav"/><Relationship Id="rId4" Type="http://schemas.openxmlformats.org/officeDocument/2006/relationships/audio" Target="../media/jetflyby2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jetflyby2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highchime.wav"/><Relationship Id="rId6" Type="http://schemas.openxmlformats.org/officeDocument/2006/relationships/audio" Target="../media/jetflyby2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jetflyby2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highchime.wav"/><Relationship Id="rId6" Type="http://schemas.openxmlformats.org/officeDocument/2006/relationships/audio" Target="../media/jetflyby2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4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ell whether each of the following number is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prime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or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composite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1400" y="1836720"/>
            <a:ext cx="17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.  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3600" y="2876400"/>
            <a:ext cx="17337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Souvenir Lt BT"/>
              </a:rPr>
              <a:t>Prime</a:t>
            </a:r>
            <a:endParaRPr b="0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Souvenir Lt BT"/>
              <a:ea typeface="Souvenir Lt BT"/>
            </a:endParaRPr>
          </a:p>
        </p:txBody>
      </p:sp>
      <p:sp>
        <p:nvSpPr>
          <p:cNvPr id="45" name=""/>
          <p:cNvSpPr/>
          <p:nvPr/>
        </p:nvSpPr>
        <p:spPr>
          <a:xfrm>
            <a:off x="4888080" y="1843200"/>
            <a:ext cx="17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.  5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484520" y="2940120"/>
            <a:ext cx="3476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Souvenir Lt BT"/>
              </a:rPr>
              <a:t>Composite</a:t>
            </a:r>
            <a:endParaRPr b="0" lang="en-US" sz="60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Souvenir Lt BT"/>
              <a:ea typeface="Souvenir Lt B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386320" y="4014720"/>
                <a:ext cx="8301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121440" y="4008600"/>
                <a:ext cx="88416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4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ell whether each of the following number is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prime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or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composite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1400" y="1836720"/>
            <a:ext cx="17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.  3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61800" y="2940120"/>
            <a:ext cx="3476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Souvenir Lt BT"/>
              </a:rPr>
              <a:t>Composite</a:t>
            </a:r>
            <a:endParaRPr b="0" lang="en-US" sz="60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Souvenir Lt BT"/>
              <a:ea typeface="Souvenir Lt B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135080" y="4087800"/>
                <a:ext cx="8301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870200" y="4081320"/>
                <a:ext cx="8841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5133960" y="1814400"/>
            <a:ext cx="17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.  2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05320" y="2963880"/>
            <a:ext cx="17337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Souvenir Lt BT"/>
              </a:rPr>
              <a:t>Prime</a:t>
            </a:r>
            <a:endParaRPr b="0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Souvenir Lt BT"/>
              <a:ea typeface="Souvenir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4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ell whether each of the following number is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prime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or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composite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1400" y="1836720"/>
            <a:ext cx="17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.  7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26000" y="3003480"/>
            <a:ext cx="347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Souvenir Lt BT"/>
              </a:rPr>
              <a:t>Composite</a:t>
            </a:r>
            <a:endParaRPr b="0" lang="en-US" sz="60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Souvenir Lt BT"/>
              <a:ea typeface="Souvenir Lt B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514840" y="4067280"/>
                <a:ext cx="7700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292800" y="4075200"/>
                <a:ext cx="770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5133960" y="1814400"/>
            <a:ext cx="17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.  7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2960" y="2963880"/>
            <a:ext cx="17334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Souvenir Lt BT"/>
              </a:rPr>
              <a:t>Prime</a:t>
            </a:r>
            <a:endParaRPr b="0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Souvenir Lt BT"/>
              <a:ea typeface="Souvenir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4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ell whether each of the following number is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prime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or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composite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1400" y="183672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.  10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26000" y="3003480"/>
            <a:ext cx="347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Souvenir Lt BT"/>
              </a:rPr>
              <a:t>Composite</a:t>
            </a:r>
            <a:endParaRPr b="0" lang="en-US" sz="60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Souvenir Lt BT"/>
              <a:ea typeface="Souvenir Lt B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526000" y="4160880"/>
                <a:ext cx="7826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315120" y="4154400"/>
                <a:ext cx="96516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5133960" y="1814400"/>
            <a:ext cx="17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.  8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41440" y="3003480"/>
            <a:ext cx="347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Souvenir Lt BT"/>
              </a:rPr>
              <a:t>Composite</a:t>
            </a:r>
            <a:endParaRPr b="0" lang="en-US" sz="60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Souvenir Lt BT"/>
              <a:ea typeface="Souvenir Lt B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308240" y="4176720"/>
                <a:ext cx="8269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184480" y="4172040"/>
                <a:ext cx="9190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4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ell whether each of the following number is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prime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or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composite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1400" y="183672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.  9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26000" y="3003480"/>
            <a:ext cx="347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Souvenir Lt BT"/>
              </a:rPr>
              <a:t>Composite</a:t>
            </a:r>
            <a:endParaRPr b="0" lang="en-US" sz="60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Souvenir Lt BT"/>
              <a:ea typeface="Souvenir Lt B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526000" y="4160880"/>
                <a:ext cx="7826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315120" y="4154400"/>
                <a:ext cx="96516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935600" y="181440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0.  6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2520" y="3016080"/>
            <a:ext cx="347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Souvenir Lt BT"/>
              </a:rPr>
              <a:t>Composite</a:t>
            </a:r>
            <a:endParaRPr b="0" lang="en-US" sz="60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Souvenir Lt BT"/>
              <a:ea typeface="Souvenir Lt B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330200" y="4173480"/>
                <a:ext cx="8287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187720" y="4167360"/>
                <a:ext cx="8730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10340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53, 6 – 4 #1 – 12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 5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ieve of Eratosthen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1-18T11:57:35Z</dcterms:modified>
  <cp:revision>77</cp:revision>
  <dc:subject/>
  <dc:title>Slide 1</dc:title>
</cp:coreProperties>
</file>